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F42BA-ECAD-4725-90BA-03445D6D0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A76C6-BDB6-41B4-9B3E-A1E934DBF8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F26D0-544A-4796-876A-10D08C401F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37B84-91CA-4A8F-BE5A-8C3E9FFA9D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ED279-B0AF-4179-BAAD-285AF8C0F9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D0F11-8996-405F-AE5E-022CED9B4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073C8-1323-466D-81A1-ACDBF176B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7C581-C0DD-49A1-AB8F-D084AEDFA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0F862-D613-4D0B-B3F3-A9822E609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723A-5748-4F1C-AA11-1DE0ACD7F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A54FB-C040-46D3-A85F-96F50B62BA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400A6-E6DF-4B15-8C44-71053C005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EBA5-6141-4466-B413-8472499691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-152280" y="1447920"/>
            <a:ext cx="68072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fe"/>
                </a:solidFill>
                <a:latin typeface="Times New Roman Bold"/>
                <a:ea typeface="Times New Roman Bold"/>
              </a:rPr>
              <a:t>Cathedral:</a:t>
            </a:r>
            <a:r>
              <a:rPr b="0" lang="en-US" sz="2400" spc="-1" strike="noStrike">
                <a:solidFill>
                  <a:srgbClr val="0044fe"/>
                </a:solidFill>
                <a:latin typeface="Arial Bold"/>
                <a:ea typeface="Arial Bold"/>
              </a:rPr>
              <a:t>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A large and elaborate Christian chu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971800" y="2209680"/>
            <a:ext cx="3124080" cy="3200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76720" y="5410080"/>
            <a:ext cx="2463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ttp://www.cathedral.ely.anglican.org/images/ElyCathedralOctagons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1219320"/>
            <a:ext cx="9169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cc"/>
                </a:solidFill>
                <a:latin typeface="Times New Roman Bold"/>
                <a:ea typeface="Times New Roman Bold"/>
              </a:rPr>
              <a:t>Plague:</a:t>
            </a:r>
            <a:r>
              <a:rPr b="0" lang="en-US" sz="2400" spc="-1" strike="noStrike">
                <a:solidFill>
                  <a:srgbClr val="003d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A disease causing a high rate of death.</a:t>
            </a:r>
            <a:r>
              <a:rPr b="0" lang="en-US" sz="1800" spc="-1" strike="noStrike">
                <a:solidFill>
                  <a:srgbClr val="d90b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438280" y="1676520"/>
            <a:ext cx="3200400" cy="3733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895480" y="5257800"/>
            <a:ext cx="3302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ttp://www.english.upenn.edu/Undergrad/Courses/Spring02/traffic/Images/Unit1/plague100%25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371600"/>
            <a:ext cx="8940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cc"/>
                </a:solidFill>
                <a:latin typeface="Times New Roman Bold"/>
                <a:ea typeface="Times New Roman Bold"/>
              </a:rPr>
              <a:t>Chivalry:</a:t>
            </a: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Code of a knight. A quality such as: bravery,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      honor, protection of the weak, and generous treatment of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      fo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276720" y="2514600"/>
            <a:ext cx="2447640" cy="2971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76720" y="5486400"/>
            <a:ext cx="2539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ttp://thealchemicalegg.com/72PRJustice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295280"/>
            <a:ext cx="916956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cc"/>
                </a:solidFill>
                <a:latin typeface="Times New Roman Bold"/>
                <a:ea typeface="Times New Roman Bold"/>
              </a:rPr>
              <a:t>Crusade:</a:t>
            </a:r>
            <a:r>
              <a:rPr b="0" lang="en-US" sz="1800" spc="-1" strike="noStrike">
                <a:solidFill>
                  <a:srgbClr val="003dcc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A series of “holy wars” in which European Christians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     attempted to recapture the Holy Land (Palestine) from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     Musli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352680" y="2514600"/>
            <a:ext cx="2525760" cy="2895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414600" y="5410080"/>
            <a:ext cx="2476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ttp://www.tustin.k12.ca.us/cyberseminar/soc/seven/crusades2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990720"/>
            <a:ext cx="9169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cc"/>
                </a:solidFill>
                <a:latin typeface="Times New Roman Bold"/>
                <a:ea typeface="Times New Roman Bold"/>
              </a:rPr>
              <a:t>Feudalism:</a:t>
            </a:r>
            <a:r>
              <a:rPr b="0" lang="en-US" sz="2400" spc="-1" strike="noStrike">
                <a:solidFill>
                  <a:srgbClr val="003d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An economic and political system based 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        on certain oblig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4724280"/>
            <a:ext cx="83311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Feudalism was the Lord-Vass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The Vassal sai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Italic"/>
                <a:ea typeface="Arial Italic"/>
              </a:rPr>
              <a:t>"I swear to defend you.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The lord sai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Italic"/>
                <a:ea typeface="Arial Italic"/>
              </a:rPr>
              <a:t>“In return, I provide you with land and justice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648320"/>
            <a:ext cx="640080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4343400"/>
            <a:ext cx="26164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</a:rPr>
              <a:t>http://www.medievalresources.com/images/feudal_wupv.gi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69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cc"/>
                </a:solidFill>
                <a:latin typeface="Times New Roman Bold"/>
                <a:ea typeface="Times New Roman Bold"/>
              </a:rPr>
              <a:t>Fief:</a:t>
            </a:r>
            <a:r>
              <a:rPr b="0" lang="en-US" sz="1800" spc="-1" strike="noStrike">
                <a:solidFill>
                  <a:srgbClr val="003dcc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A large piece of land granted by a king to a lord in exchange for his    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loyalty and prot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2895480" cy="3276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152280" y="5410080"/>
            <a:ext cx="3759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ttp://secure-4.com/land5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1219320"/>
            <a:ext cx="9169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cc"/>
                </a:solidFill>
                <a:latin typeface="Times New Roman Bold"/>
                <a:ea typeface="Times New Roman Bold"/>
              </a:rPr>
              <a:t>Knight: </a:t>
            </a:r>
            <a:r>
              <a:rPr b="0" lang="en-US" sz="24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A son of a noble, who was a trained soldier and gave military </a:t>
            </a:r>
            <a:r>
              <a:rPr b="0" lang="en-US" sz="24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  service in exchange for right to hold 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819520" y="2057400"/>
            <a:ext cx="2590560" cy="3276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895480" y="5334120"/>
            <a:ext cx="246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ttp://www.lordsofthelance.com/images/knight1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1219320"/>
            <a:ext cx="9169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cc"/>
                </a:solidFill>
                <a:latin typeface="Times New Roman Bold"/>
                <a:ea typeface="Times New Roman Bold"/>
              </a:rPr>
              <a:t>Magna Carta:</a:t>
            </a:r>
            <a:r>
              <a:rPr b="0" lang="en-US" sz="2400" spc="-1" strike="noStrike">
                <a:solidFill>
                  <a:srgbClr val="003d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A document drawn up by English nobles in 1215 that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              spelled out certain rights and limited the king’s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200400" y="1981080"/>
            <a:ext cx="2838600" cy="3276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00400" y="5257800"/>
            <a:ext cx="28447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ttp://www.bnp.org.uk/wp-content/uploads/magna_carta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1219320"/>
            <a:ext cx="9016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fe"/>
                </a:solidFill>
                <a:latin typeface="Times New Roman Bold"/>
                <a:ea typeface="Times New Roman Bold"/>
              </a:rPr>
              <a:t>Manor: </a:t>
            </a:r>
            <a:r>
              <a:rPr b="0" lang="en-US" sz="24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A piece of a Fief, which is a self-sufficient farming estate </a:t>
            </a:r>
            <a:r>
              <a:rPr b="0" lang="en-US" sz="24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  where nobles and serfs lived and work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276720" y="2057400"/>
            <a:ext cx="2666880" cy="3276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00400" y="5410080"/>
            <a:ext cx="269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ttp://www.wolfhavenproductions.net/FeudalEurope/manormap2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1219320"/>
            <a:ext cx="9169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cc"/>
                </a:solidFill>
                <a:latin typeface="Times New Roman Bold"/>
                <a:ea typeface="Times New Roman Bold"/>
              </a:rPr>
              <a:t>Monaster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A religious community in which monks le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200400" y="2209680"/>
            <a:ext cx="2971800" cy="2514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352680" y="4876920"/>
            <a:ext cx="2921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ttp://www.orienttravel-bg.com/hotels/5_trs1_Rila-Monastery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/>
  <cp:revision>0</cp:revision>
  <dc:subject/>
  <dc:title>Slide 1</dc:title>
</cp:coreProperties>
</file>